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5.gif" ContentType="image/gif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4.png" ContentType="image/png"/>
  <Override PartName="/ppt/media/image2.png" ContentType="image/png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667-6551-46F3-80D4-D12CE80A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528-A9ED-4489-B346-45CBF21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ECF-FE62-494D-8472-664A3AB8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96D-5BD2-4536-8A7E-A3ACDA3C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0E08-ECEB-4BFC-BE6C-4465FC26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A9F-C0BF-47DC-9EB6-BC88B966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E94-AF72-4B2F-9EFA-1D70A1E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F1C-A15C-4787-B789-33EC3CE8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58D1-28B5-4596-9FE3-9A35F530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0BB2-0E4C-47C4-8DD6-71A8D74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CB53-DA8B-445A-A7D5-32C32A1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CCA-A0AA-44BD-9300-DF660F98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314-3E29-45D0-BE0B-BAF8FAD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AD9-67E4-4E90-8CF2-640066E0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26A-A509-4900-AD06-668BE31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FDB8-D635-46CE-9FB5-5487CA1D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CE03-D472-4165-AF2F-1BD57A04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7A3-135D-4238-A51E-25722E3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B3E-EC67-4D65-B9AA-8DB7BA91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711-196F-4791-84A4-64E1BF4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A78-04EC-48C3-B267-1E564DC0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4F9-B642-49B1-8568-50506113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567-3796-40D1-9CB7-B0319F0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25B-20D6-4409-B060-9E82ED95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8581-D86C-4AA8-BCA8-19066EBC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05A6-A307-4FB9-917C-7CC925CE8F1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athslogo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华文行楷"/>
              </a:rPr>
              <a:t>29.1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点与圆的位置关系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276720" y="2205000"/>
            <a:ext cx="1871640" cy="187164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179960" y="305928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2050920" y="339264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724360" y="2637000"/>
            <a:ext cx="3419640" cy="37062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1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79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3"/>
          <p:cNvGrpSpPr/>
          <p:nvPr/>
        </p:nvGrpSpPr>
        <p:grpSpPr>
          <a:xfrm>
            <a:off x="4323240" y="2730600"/>
            <a:ext cx="4031640" cy="3239640"/>
            <a:chOff x="4323240" y="2730600"/>
            <a:chExt cx="4031640" cy="3239640"/>
          </a:xfrm>
        </p:grpSpPr>
        <p:sp>
          <p:nvSpPr>
            <p:cNvPr id="168" name="Line 4"/>
            <p:cNvSpPr/>
            <p:nvPr/>
          </p:nvSpPr>
          <p:spPr>
            <a:xfrm>
              <a:off x="4529160" y="5397480"/>
              <a:ext cx="3289320" cy="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042320" y="2881440"/>
              <a:ext cx="0" cy="293832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7899840" y="506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东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7180560" y="2730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4323240" y="4680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H="1" flipV="1">
              <a:off x="5097600" y="3451320"/>
              <a:ext cx="1939680" cy="19396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7023600" y="5327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4681800" y="2959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6651720" y="5121360"/>
              <a:ext cx="93600" cy="261720"/>
            </a:xfrm>
            <a:custGeom>
              <a:avLst/>
              <a:gdLst/>
              <a:ahLst/>
              <a:rect l="l" t="t" r="r" b="b"/>
              <a:pathLst>
                <a:path w="59" h="165">
                  <a:moveTo>
                    <a:pt x="59" y="0"/>
                  </a:moveTo>
                  <a:cubicBezTo>
                    <a:pt x="0" y="40"/>
                    <a:pt x="14" y="101"/>
                    <a:pt x="14" y="165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5871960" y="4788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45°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772160" y="530712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562720" y="5378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4876920" y="4288320"/>
            <a:ext cx="1222920" cy="1070640"/>
            <a:chOff x="4876920" y="4288320"/>
            <a:chExt cx="1222920" cy="1070640"/>
          </a:xfrm>
        </p:grpSpPr>
        <p:sp>
          <p:nvSpPr>
            <p:cNvPr id="181" name="Line 17"/>
            <p:cNvSpPr/>
            <p:nvPr/>
          </p:nvSpPr>
          <p:spPr>
            <a:xfrm flipV="1">
              <a:off x="4876920" y="4292280"/>
              <a:ext cx="106668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 rot="18630600">
              <a:off x="5824080" y="4335120"/>
              <a:ext cx="228600" cy="228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3" name="Rectangle 19"/>
          <p:cNvSpPr/>
          <p:nvPr/>
        </p:nvSpPr>
        <p:spPr>
          <a:xfrm>
            <a:off x="5868720" y="3759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50920" y="8960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应用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位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地的某市接到气象部门的沙尘暴预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沙尘暴中心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市正东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00k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处正向西北方向移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沙尘暴中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00k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范围内将会受到影响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认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会受到沙尘暴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影响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什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47680" y="457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过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C⊥BD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于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5009040" y="1600200"/>
            <a:ext cx="4031640" cy="3239640"/>
            <a:chOff x="5009040" y="1600200"/>
            <a:chExt cx="4031640" cy="3239640"/>
          </a:xfrm>
        </p:grpSpPr>
        <p:sp>
          <p:nvSpPr>
            <p:cNvPr id="187" name="Line 4"/>
            <p:cNvSpPr/>
            <p:nvPr/>
          </p:nvSpPr>
          <p:spPr>
            <a:xfrm>
              <a:off x="5214960" y="4267080"/>
              <a:ext cx="3289320" cy="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 flipV="1">
              <a:off x="7728120" y="1751040"/>
              <a:ext cx="0" cy="2938320"/>
            </a:xfrm>
            <a:prstGeom prst="line">
              <a:avLst/>
            </a:prstGeom>
            <a:ln w="4140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8585640" y="3938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东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7866360" y="1600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5009040" y="3549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 flipH="1" flipV="1">
              <a:off x="5783400" y="2320920"/>
              <a:ext cx="1939680" cy="19396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7709400" y="41972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367600" y="18288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7337520" y="3990960"/>
              <a:ext cx="93600" cy="261720"/>
            </a:xfrm>
            <a:custGeom>
              <a:avLst/>
              <a:gdLst/>
              <a:ahLst/>
              <a:rect l="l" t="t" r="r" b="b"/>
              <a:pathLst>
                <a:path w="59" h="165">
                  <a:moveTo>
                    <a:pt x="59" y="0"/>
                  </a:moveTo>
                  <a:cubicBezTo>
                    <a:pt x="0" y="40"/>
                    <a:pt x="14" y="101"/>
                    <a:pt x="14" y="165"/>
                  </a:cubicBez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6560280" y="36576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°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5457960" y="417672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8" name="Rectangle 15"/>
          <p:cNvSpPr/>
          <p:nvPr/>
        </p:nvSpPr>
        <p:spPr>
          <a:xfrm>
            <a:off x="614376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5553000" y="3145320"/>
            <a:ext cx="1223280" cy="1070640"/>
            <a:chOff x="5553000" y="3145320"/>
            <a:chExt cx="1223280" cy="1070640"/>
          </a:xfrm>
        </p:grpSpPr>
        <p:sp>
          <p:nvSpPr>
            <p:cNvPr id="200" name="Line 17"/>
            <p:cNvSpPr/>
            <p:nvPr/>
          </p:nvSpPr>
          <p:spPr>
            <a:xfrm flipV="1">
              <a:off x="5553000" y="3149280"/>
              <a:ext cx="106704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 rot="18630600">
              <a:off x="6500880" y="319212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2" name="Rectangle 19"/>
          <p:cNvSpPr/>
          <p:nvPr/>
        </p:nvSpPr>
        <p:spPr>
          <a:xfrm>
            <a:off x="6545160" y="2616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304920" y="1371600"/>
            <a:ext cx="4724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t△AB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=400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C=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4" name="Group 21"/>
          <p:cNvGrpSpPr/>
          <p:nvPr/>
        </p:nvGrpSpPr>
        <p:grpSpPr>
          <a:xfrm>
            <a:off x="399960" y="3276720"/>
            <a:ext cx="4343400" cy="703440"/>
            <a:chOff x="399960" y="3276720"/>
            <a:chExt cx="4343400" cy="703440"/>
          </a:xfrm>
        </p:grpSpPr>
        <p:sp>
          <p:nvSpPr>
            <p:cNvPr id="205" name="Text Box 22"/>
            <p:cNvSpPr/>
            <p:nvPr/>
          </p:nvSpPr>
          <p:spPr>
            <a:xfrm>
              <a:off x="399960" y="32767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∴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C=20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06" name="Object 23" descr=""/>
            <p:cNvPicPr/>
            <p:nvPr/>
          </p:nvPicPr>
          <p:blipFill>
            <a:blip r:embed="rId1"/>
            <a:stretch/>
          </p:blipFill>
          <p:spPr>
            <a:xfrm>
              <a:off x="3019320" y="3290760"/>
              <a:ext cx="73476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24"/>
          <p:cNvSpPr/>
          <p:nvPr/>
        </p:nvSpPr>
        <p:spPr>
          <a:xfrm>
            <a:off x="1467000" y="39466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399960" y="45561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3&lt;30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324000" y="53942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∴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市会受到沙尘暴影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80880" y="155736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填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点和圆的位置关系有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种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在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616720" y="22748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34880" y="28130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916360" y="2852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235480" y="2879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71640" y="5229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&gt;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859280" y="443700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=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971640" y="436572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&lt;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4000" y="364500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圆的半径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点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为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内，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圆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250920" y="783720"/>
            <a:ext cx="2376360" cy="670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ff"/>
                </a:solidFill>
                <a:latin typeface="Times New Roman"/>
                <a:ea typeface="隶书"/>
              </a:rPr>
              <a:t>课堂检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1"/>
          <p:cNvSpPr/>
          <p:nvPr/>
        </p:nvSpPr>
        <p:spPr>
          <a:xfrm>
            <a:off x="250920" y="333360"/>
            <a:ext cx="88930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直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中点，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12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若线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A=5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643280" y="2349360"/>
            <a:ext cx="10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 flipH="1">
            <a:off x="5867280" y="1773360"/>
            <a:ext cx="1182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796000" y="1125360"/>
            <a:ext cx="79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圆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38"/>
          <p:cNvSpPr/>
          <p:nvPr/>
        </p:nvSpPr>
        <p:spPr>
          <a:xfrm>
            <a:off x="179280" y="3068640"/>
            <a:ext cx="874872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已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直径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任意一点， 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关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对称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′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位置关系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A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B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C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D)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7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5"/>
          <p:cNvSpPr/>
          <p:nvPr/>
        </p:nvSpPr>
        <p:spPr>
          <a:xfrm>
            <a:off x="250920" y="90792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半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=10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圆心到直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M=8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在直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有一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M=6cm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1835280" y="184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324000" y="35002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P=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满足关系式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+r</a:t>
            </a:r>
            <a:r>
              <a:rPr b="1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d-4r+5=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在 （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圆心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749840" y="22694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点的位置是（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432880" y="2285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那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80920" y="1523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如果延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7357320" y="761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是圆上一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419720" y="3060720"/>
            <a:ext cx="4038480" cy="334008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" descr=""/>
          <p:cNvPicPr/>
          <p:nvPr/>
        </p:nvPicPr>
        <p:blipFill>
          <a:blip r:embed="rId2"/>
          <a:stretch/>
        </p:blipFill>
        <p:spPr>
          <a:xfrm>
            <a:off x="1895400" y="866880"/>
            <a:ext cx="914400" cy="57456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8" descr=""/>
          <p:cNvPicPr/>
          <p:nvPr/>
        </p:nvPicPr>
        <p:blipFill>
          <a:blip r:embed="rId3"/>
          <a:stretch/>
        </p:blipFill>
        <p:spPr>
          <a:xfrm>
            <a:off x="3648240" y="800280"/>
            <a:ext cx="610920" cy="72360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9" descr=""/>
          <p:cNvPicPr/>
          <p:nvPr/>
        </p:nvPicPr>
        <p:blipFill>
          <a:blip r:embed="rId4"/>
          <a:stretch/>
        </p:blipFill>
        <p:spPr>
          <a:xfrm>
            <a:off x="5934240" y="798480"/>
            <a:ext cx="610920" cy="72540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10" descr=""/>
          <p:cNvPicPr/>
          <p:nvPr/>
        </p:nvPicPr>
        <p:blipFill>
          <a:blip r:embed="rId5"/>
          <a:stretch/>
        </p:blipFill>
        <p:spPr>
          <a:xfrm>
            <a:off x="752400" y="1560600"/>
            <a:ext cx="611280" cy="7254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6"/>
          <a:stretch/>
        </p:blipFill>
        <p:spPr>
          <a:xfrm>
            <a:off x="1819440" y="1557360"/>
            <a:ext cx="1035000" cy="72864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2" descr=""/>
          <p:cNvPicPr/>
          <p:nvPr/>
        </p:nvPicPr>
        <p:blipFill>
          <a:blip r:embed="rId7"/>
          <a:stretch/>
        </p:blipFill>
        <p:spPr>
          <a:xfrm>
            <a:off x="3191040" y="1558800"/>
            <a:ext cx="1035000" cy="6508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13" descr=""/>
          <p:cNvPicPr/>
          <p:nvPr/>
        </p:nvPicPr>
        <p:blipFill>
          <a:blip r:embed="rId8"/>
          <a:stretch/>
        </p:blipFill>
        <p:spPr>
          <a:xfrm>
            <a:off x="4410000" y="15588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14" descr=""/>
          <p:cNvPicPr/>
          <p:nvPr/>
        </p:nvPicPr>
        <p:blipFill>
          <a:blip r:embed="rId9"/>
          <a:stretch/>
        </p:blipFill>
        <p:spPr>
          <a:xfrm>
            <a:off x="7458120" y="1557360"/>
            <a:ext cx="1035000" cy="728640"/>
          </a:xfrm>
          <a:prstGeom prst="rect">
            <a:avLst/>
          </a:prstGeom>
          <a:ln w="0">
            <a:noFill/>
          </a:ln>
        </p:spPr>
      </p:pic>
      <p:pic>
        <p:nvPicPr>
          <p:cNvPr id="241" name="Object 15" descr=""/>
          <p:cNvPicPr/>
          <p:nvPr/>
        </p:nvPicPr>
        <p:blipFill>
          <a:blip r:embed="rId10"/>
          <a:stretch/>
        </p:blipFill>
        <p:spPr>
          <a:xfrm>
            <a:off x="1743120" y="2320920"/>
            <a:ext cx="611280" cy="650880"/>
          </a:xfrm>
          <a:prstGeom prst="rect">
            <a:avLst/>
          </a:prstGeom>
          <a:ln w="0">
            <a:noFill/>
          </a:ln>
        </p:spPr>
      </p:pic>
      <p:pic>
        <p:nvPicPr>
          <p:cNvPr id="242" name="Object 16" descr=""/>
          <p:cNvPicPr/>
          <p:nvPr/>
        </p:nvPicPr>
        <p:blipFill>
          <a:blip r:embed="rId11"/>
          <a:stretch/>
        </p:blipFill>
        <p:spPr>
          <a:xfrm>
            <a:off x="3648240" y="2286000"/>
            <a:ext cx="610920" cy="650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315720" y="76140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如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770120" y="83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2689200" y="761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是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4541760" y="761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的直径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134316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276084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4086360" y="1523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731520" y="2285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一倍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943920" y="3125160"/>
            <a:ext cx="304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内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上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圆外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不一定在圆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352440" y="152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7342560" y="22845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5619600" y="4676760"/>
            <a:ext cx="0" cy="1371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Rectangle 29"/>
          <p:cNvSpPr/>
          <p:nvPr/>
        </p:nvSpPr>
        <p:spPr>
          <a:xfrm>
            <a:off x="5257800" y="5943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" y="53244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在直角坐标系中，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⊙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半径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圆心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坐标为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，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坐标为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，则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与圆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位置关系是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__________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763640" y="198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162920" y="4680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467480" y="36291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(4,2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73152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4111560" y="2362320"/>
            <a:ext cx="4650120" cy="4390560"/>
            <a:chOff x="4111560" y="2362320"/>
            <a:chExt cx="4650120" cy="4390560"/>
          </a:xfrm>
        </p:grpSpPr>
        <p:grpSp>
          <p:nvGrpSpPr>
            <p:cNvPr id="262" name="Group 8"/>
            <p:cNvGrpSpPr/>
            <p:nvPr/>
          </p:nvGrpSpPr>
          <p:grpSpPr>
            <a:xfrm>
              <a:off x="4111560" y="2519280"/>
              <a:ext cx="4355640" cy="4233600"/>
              <a:chOff x="4111560" y="2519280"/>
              <a:chExt cx="4355640" cy="4233600"/>
            </a:xfrm>
          </p:grpSpPr>
          <p:sp>
            <p:nvSpPr>
              <p:cNvPr id="263" name="Line 9"/>
              <p:cNvSpPr/>
              <p:nvPr/>
            </p:nvSpPr>
            <p:spPr>
              <a:xfrm>
                <a:off x="4111560" y="4719240"/>
                <a:ext cx="4355640" cy="0"/>
              </a:xfrm>
              <a:prstGeom prst="line">
                <a:avLst/>
              </a:prstGeom>
              <a:ln w="41400">
                <a:solidFill>
                  <a:srgbClr val="007a7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4" name="Line 10"/>
              <p:cNvSpPr/>
              <p:nvPr/>
            </p:nvSpPr>
            <p:spPr>
              <a:xfrm flipV="1">
                <a:off x="6168240" y="2519280"/>
                <a:ext cx="0" cy="4233600"/>
              </a:xfrm>
              <a:prstGeom prst="line">
                <a:avLst/>
              </a:prstGeom>
              <a:ln w="41400">
                <a:solidFill>
                  <a:srgbClr val="007a7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65" name="Oval 11"/>
            <p:cNvSpPr/>
            <p:nvPr/>
          </p:nvSpPr>
          <p:spPr>
            <a:xfrm>
              <a:off x="4630680" y="3179880"/>
              <a:ext cx="3054240" cy="30668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8299080" y="46101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5640840" y="2362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y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671080" y="463248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45948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76584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707220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>
              <a:off x="73785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768492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9449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525132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555768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586440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170760" y="4610160"/>
              <a:ext cx="0" cy="1015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9" name="Group 25"/>
            <p:cNvGrpSpPr/>
            <p:nvPr/>
          </p:nvGrpSpPr>
          <p:grpSpPr>
            <a:xfrm>
              <a:off x="6168960" y="3484800"/>
              <a:ext cx="101160" cy="919080"/>
              <a:chOff x="6168960" y="3484800"/>
              <a:chExt cx="101160" cy="919080"/>
            </a:xfrm>
          </p:grpSpPr>
          <p:sp>
            <p:nvSpPr>
              <p:cNvPr id="280" name="Line 26"/>
              <p:cNvSpPr/>
              <p:nvPr/>
            </p:nvSpPr>
            <p:spPr>
              <a:xfrm>
                <a:off x="6168960" y="440388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>
                <a:off x="6168960" y="409752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Line 28"/>
              <p:cNvSpPr/>
              <p:nvPr/>
            </p:nvSpPr>
            <p:spPr>
              <a:xfrm>
                <a:off x="6168960" y="379116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Line 29"/>
              <p:cNvSpPr/>
              <p:nvPr/>
            </p:nvSpPr>
            <p:spPr>
              <a:xfrm>
                <a:off x="6168960" y="3484800"/>
                <a:ext cx="1011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0"/>
            <p:cNvGrpSpPr/>
            <p:nvPr/>
          </p:nvGrpSpPr>
          <p:grpSpPr>
            <a:xfrm>
              <a:off x="6176880" y="5016600"/>
              <a:ext cx="102960" cy="918720"/>
              <a:chOff x="6176880" y="5016600"/>
              <a:chExt cx="102960" cy="918720"/>
            </a:xfrm>
          </p:grpSpPr>
          <p:sp>
            <p:nvSpPr>
              <p:cNvPr id="285" name="Line 31"/>
              <p:cNvSpPr/>
              <p:nvPr/>
            </p:nvSpPr>
            <p:spPr>
              <a:xfrm>
                <a:off x="6176880" y="593532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6" name="Line 32"/>
              <p:cNvSpPr/>
              <p:nvPr/>
            </p:nvSpPr>
            <p:spPr>
              <a:xfrm>
                <a:off x="6176880" y="562932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7" name="Line 33"/>
              <p:cNvSpPr/>
              <p:nvPr/>
            </p:nvSpPr>
            <p:spPr>
              <a:xfrm>
                <a:off x="6176880" y="532296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8" name="Line 34"/>
              <p:cNvSpPr/>
              <p:nvPr/>
            </p:nvSpPr>
            <p:spPr>
              <a:xfrm>
                <a:off x="6176880" y="5016600"/>
                <a:ext cx="10296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35"/>
          <p:cNvSpPr/>
          <p:nvPr/>
        </p:nvSpPr>
        <p:spPr>
          <a:xfrm>
            <a:off x="6248520" y="41148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36"/>
          <p:cNvSpPr/>
          <p:nvPr/>
        </p:nvSpPr>
        <p:spPr>
          <a:xfrm flipV="1">
            <a:off x="7377120" y="4071960"/>
            <a:ext cx="0" cy="676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5562720" y="37814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 flipV="1">
            <a:off x="6157800" y="4114440"/>
            <a:ext cx="1219320" cy="6094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Object 39" descr=""/>
          <p:cNvPicPr/>
          <p:nvPr/>
        </p:nvPicPr>
        <p:blipFill>
          <a:blip r:embed="rId1"/>
          <a:stretch/>
        </p:blipFill>
        <p:spPr>
          <a:xfrm>
            <a:off x="5197320" y="316872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40"/>
          <p:cNvGrpSpPr/>
          <p:nvPr/>
        </p:nvGrpSpPr>
        <p:grpSpPr>
          <a:xfrm>
            <a:off x="838080" y="3581280"/>
            <a:ext cx="2057400" cy="746280"/>
            <a:chOff x="838080" y="3581280"/>
            <a:chExt cx="2057400" cy="746280"/>
          </a:xfrm>
        </p:grpSpPr>
        <p:sp>
          <p:nvSpPr>
            <p:cNvPr id="295" name="Rectangle 41"/>
            <p:cNvSpPr/>
            <p:nvPr/>
          </p:nvSpPr>
          <p:spPr>
            <a:xfrm>
              <a:off x="838080" y="36241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P=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96" name="Object 42" descr=""/>
            <p:cNvPicPr/>
            <p:nvPr/>
          </p:nvPicPr>
          <p:blipFill>
            <a:blip r:embed="rId2"/>
            <a:stretch/>
          </p:blipFill>
          <p:spPr>
            <a:xfrm>
              <a:off x="1904760" y="3581280"/>
              <a:ext cx="99072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Object 43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2076480" cy="888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4"/>
          <p:cNvSpPr/>
          <p:nvPr/>
        </p:nvSpPr>
        <p:spPr>
          <a:xfrm>
            <a:off x="914400" y="5486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&lt;r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152280" y="28954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坐标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4,3)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呢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6847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△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中，∠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=90°,∠B=60°, AC=3,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以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为圆心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为半径作⊙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如果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在圆内，而点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在圆外，那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取值范围是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19328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40296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193280" y="3048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4724280" y="3276720"/>
            <a:ext cx="1698480" cy="2802960"/>
            <a:chOff x="4724280" y="3276720"/>
            <a:chExt cx="1698480" cy="2802960"/>
          </a:xfrm>
        </p:grpSpPr>
        <p:sp>
          <p:nvSpPr>
            <p:cNvPr id="305" name="AutoShape 7"/>
            <p:cNvSpPr/>
            <p:nvPr/>
          </p:nvSpPr>
          <p:spPr>
            <a:xfrm>
              <a:off x="4724280" y="3276720"/>
              <a:ext cx="1698480" cy="2802960"/>
            </a:xfrm>
            <a:prstGeom prst="rtTriangle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4724280" y="5824800"/>
              <a:ext cx="254520" cy="25452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7" name="Rectangle 9"/>
          <p:cNvSpPr/>
          <p:nvPr/>
        </p:nvSpPr>
        <p:spPr>
          <a:xfrm>
            <a:off x="4267080" y="4302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>
            <a:off x="6041880" y="5740560"/>
            <a:ext cx="168480" cy="323640"/>
          </a:xfrm>
          <a:custGeom>
            <a:avLst/>
            <a:gdLst/>
            <a:ahLst/>
            <a:rect l="l" t="t" r="r" b="b"/>
            <a:pathLst>
              <a:path w="100" h="192">
                <a:moveTo>
                  <a:pt x="100" y="0"/>
                </a:moveTo>
                <a:cubicBezTo>
                  <a:pt x="67" y="17"/>
                  <a:pt x="53" y="30"/>
                  <a:pt x="27" y="55"/>
                </a:cubicBezTo>
                <a:cubicBezTo>
                  <a:pt x="8" y="115"/>
                  <a:pt x="0" y="132"/>
                  <a:pt x="0" y="192"/>
                </a:cubicBezTo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261400" y="54151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0" name="Object 12" descr=""/>
          <p:cNvPicPr/>
          <p:nvPr/>
        </p:nvPicPr>
        <p:blipFill>
          <a:blip r:embed="rId1"/>
          <a:stretch/>
        </p:blipFill>
        <p:spPr>
          <a:xfrm>
            <a:off x="5105520" y="6039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311" name="Object 1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14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2201760" cy="761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1196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一个点到圆的最大距离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1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最小距离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5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则圆的半径为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(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95280" y="3284640"/>
            <a:ext cx="835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6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cm      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cm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cm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cm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　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cm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887240" y="1773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Object 18" descr=""/>
          <p:cNvPicPr/>
          <p:nvPr/>
        </p:nvPicPr>
        <p:blipFill>
          <a:blip r:embed="rId1"/>
          <a:stretch/>
        </p:blipFill>
        <p:spPr>
          <a:xfrm>
            <a:off x="2147482800" y="2147482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9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692360" y="2060640"/>
            <a:ext cx="4800600" cy="3184560"/>
            <a:chOff x="1692360" y="2060640"/>
            <a:chExt cx="4800600" cy="3184560"/>
          </a:xfrm>
        </p:grpSpPr>
        <p:grpSp>
          <p:nvGrpSpPr>
            <p:cNvPr id="320" name="Group 5"/>
            <p:cNvGrpSpPr/>
            <p:nvPr/>
          </p:nvGrpSpPr>
          <p:grpSpPr>
            <a:xfrm>
              <a:off x="1692360" y="2060640"/>
              <a:ext cx="4800600" cy="3184560"/>
              <a:chOff x="1692360" y="2060640"/>
              <a:chExt cx="4800600" cy="318456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2165400" y="4056120"/>
                <a:ext cx="150840" cy="14940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22" name="Group 7"/>
              <p:cNvGrpSpPr/>
              <p:nvPr/>
            </p:nvGrpSpPr>
            <p:grpSpPr>
              <a:xfrm>
                <a:off x="3063960" y="2060640"/>
                <a:ext cx="3429000" cy="3184560"/>
                <a:chOff x="3063960" y="2060640"/>
                <a:chExt cx="3429000" cy="3184560"/>
              </a:xfrm>
            </p:grpSpPr>
            <p:sp>
              <p:nvSpPr>
                <p:cNvPr id="323" name="Oval 8"/>
                <p:cNvSpPr/>
                <p:nvPr/>
              </p:nvSpPr>
              <p:spPr>
                <a:xfrm>
                  <a:off x="3063960" y="2060640"/>
                  <a:ext cx="3429000" cy="3184560"/>
                </a:xfrm>
                <a:prstGeom prst="ellipse">
                  <a:avLst/>
                </a:prstGeom>
                <a:noFill/>
                <a:ln w="381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4" name="Oval 9"/>
                <p:cNvSpPr/>
                <p:nvPr/>
              </p:nvSpPr>
              <p:spPr>
                <a:xfrm>
                  <a:off x="4694400" y="3584880"/>
                  <a:ext cx="150840" cy="1490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0"/>
                <p:cNvSpPr/>
                <p:nvPr/>
              </p:nvSpPr>
              <p:spPr>
                <a:xfrm>
                  <a:off x="4924800" y="3569040"/>
                  <a:ext cx="57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Line 11"/>
              <p:cNvSpPr/>
              <p:nvPr/>
            </p:nvSpPr>
            <p:spPr>
              <a:xfrm flipV="1">
                <a:off x="2264040" y="3356280"/>
                <a:ext cx="4190760" cy="761760"/>
              </a:xfrm>
              <a:prstGeom prst="line">
                <a:avLst/>
              </a:prstGeom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7" name="Rectangle 12"/>
              <p:cNvSpPr/>
              <p:nvPr/>
            </p:nvSpPr>
            <p:spPr>
              <a:xfrm>
                <a:off x="1692360" y="404208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28" name="Rectangle 13"/>
            <p:cNvSpPr/>
            <p:nvPr/>
          </p:nvSpPr>
          <p:spPr>
            <a:xfrm>
              <a:off x="2497320" y="34164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3826080" y="4102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64310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情况讨论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圆外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731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足球运动员踢出的地滚球在球场上滚动，在其穿越中间圆形区域的过程中，足球与这个圆有怎样的位置关系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Picture 3" descr="pubu"/>
          <p:cNvPicPr/>
          <p:nvPr/>
        </p:nvPicPr>
        <p:blipFill>
          <a:blip r:embed="rId1"/>
          <a:stretch/>
        </p:blipFill>
        <p:spPr>
          <a:xfrm>
            <a:off x="320760" y="2819520"/>
            <a:ext cx="8289720" cy="2438280"/>
          </a:xfrm>
          <a:prstGeom prst="rect">
            <a:avLst/>
          </a:prstGeom>
          <a:ln w="0">
            <a:noFill/>
          </a:ln>
        </p:spPr>
      </p:pic>
      <p:sp>
        <p:nvSpPr>
          <p:cNvPr id="90" name="Oval 4"/>
          <p:cNvSpPr/>
          <p:nvPr/>
        </p:nvSpPr>
        <p:spPr>
          <a:xfrm rot="21478800">
            <a:off x="1323720" y="3857760"/>
            <a:ext cx="6448320" cy="1071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V="1">
            <a:off x="3505320" y="2819160"/>
            <a:ext cx="2666880" cy="243828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7621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>
            <a:off x="19051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4300560" y="431496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7605720" y="4267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8229600" y="4267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1219320" y="4343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684360" y="119700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情况讨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圆内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2" name="Group 7"/>
          <p:cNvGrpSpPr/>
          <p:nvPr/>
        </p:nvGrpSpPr>
        <p:grpSpPr>
          <a:xfrm>
            <a:off x="3059280" y="2276640"/>
            <a:ext cx="3429000" cy="3184200"/>
            <a:chOff x="3059280" y="2276640"/>
            <a:chExt cx="3429000" cy="3184200"/>
          </a:xfrm>
        </p:grpSpPr>
        <p:sp>
          <p:nvSpPr>
            <p:cNvPr id="333" name="Oval 8"/>
            <p:cNvSpPr/>
            <p:nvPr/>
          </p:nvSpPr>
          <p:spPr>
            <a:xfrm>
              <a:off x="3821040" y="3952440"/>
              <a:ext cx="150840" cy="1490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3059280" y="2276640"/>
              <a:ext cx="3429000" cy="318420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4689360" y="3800160"/>
              <a:ext cx="150840" cy="1490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>
              <a:off x="4661280" y="386064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Line 12"/>
            <p:cNvSpPr/>
            <p:nvPr/>
          </p:nvSpPr>
          <p:spPr>
            <a:xfrm flipV="1">
              <a:off x="3092400" y="3578040"/>
              <a:ext cx="3353040" cy="6091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Rectangle 13"/>
            <p:cNvSpPr/>
            <p:nvPr/>
          </p:nvSpPr>
          <p:spPr>
            <a:xfrm>
              <a:off x="3668760" y="3327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Rectangle 14"/>
            <p:cNvSpPr/>
            <p:nvPr/>
          </p:nvSpPr>
          <p:spPr>
            <a:xfrm>
              <a:off x="3178080" y="351288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Rectangle 15"/>
            <p:cNvSpPr/>
            <p:nvPr/>
          </p:nvSpPr>
          <p:spPr>
            <a:xfrm>
              <a:off x="4735440" y="30985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1282680" y="1341360"/>
            <a:ext cx="34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情况讨论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圆上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1692360" y="2421000"/>
            <a:ext cx="3961800" cy="3184560"/>
            <a:chOff x="1692360" y="2421000"/>
            <a:chExt cx="3961800" cy="3184560"/>
          </a:xfrm>
        </p:grpSpPr>
        <p:sp>
          <p:nvSpPr>
            <p:cNvPr id="343" name="Oval 8"/>
            <p:cNvSpPr/>
            <p:nvPr/>
          </p:nvSpPr>
          <p:spPr>
            <a:xfrm>
              <a:off x="2196720" y="4252680"/>
              <a:ext cx="150480" cy="1494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225520" y="2421000"/>
              <a:ext cx="3428640" cy="318456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3855600" y="3944880"/>
              <a:ext cx="150480" cy="1494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>
              <a:off x="3827520" y="4005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 flipV="1">
              <a:off x="2258640" y="3722400"/>
              <a:ext cx="3352680" cy="60948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Rectangle 13"/>
            <p:cNvSpPr/>
            <p:nvPr/>
          </p:nvSpPr>
          <p:spPr>
            <a:xfrm>
              <a:off x="1692360" y="4081320"/>
              <a:ext cx="6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9" name="Rectangle 14"/>
          <p:cNvSpPr/>
          <p:nvPr/>
        </p:nvSpPr>
        <p:spPr>
          <a:xfrm>
            <a:off x="6279480" y="450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此情况不存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5"/>
          <p:cNvSpPr/>
          <p:nvPr/>
        </p:nvSpPr>
        <p:spPr>
          <a:xfrm>
            <a:off x="539640" y="134136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6156360" y="4076640"/>
            <a:ext cx="2092680" cy="1428840"/>
            <a:chOff x="6156360" y="4076640"/>
            <a:chExt cx="2092680" cy="1428840"/>
          </a:xfrm>
        </p:grpSpPr>
        <p:sp>
          <p:nvSpPr>
            <p:cNvPr id="352" name="Rectangle 7"/>
            <p:cNvSpPr/>
            <p:nvPr/>
          </p:nvSpPr>
          <p:spPr>
            <a:xfrm>
              <a:off x="6156360" y="4076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8083800" y="4106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8039160" y="5230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6166080" y="5143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6438960" y="4248000"/>
              <a:ext cx="1447920" cy="1067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7" name="Rectangle 12"/>
          <p:cNvSpPr/>
          <p:nvPr/>
        </p:nvSpPr>
        <p:spPr>
          <a:xfrm>
            <a:off x="250920" y="765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如图已知矩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B=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D=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以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为圆心作圆，使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三点中至少有一点在圆内，且至少有一点在圆外，此圆半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取值范围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Oval 13"/>
          <p:cNvSpPr/>
          <p:nvPr/>
        </p:nvSpPr>
        <p:spPr>
          <a:xfrm>
            <a:off x="4788000" y="2565360"/>
            <a:ext cx="3457440" cy="3457440"/>
          </a:xfrm>
          <a:prstGeom prst="ellips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5435640" y="3213000"/>
            <a:ext cx="2130480" cy="2130480"/>
          </a:xfrm>
          <a:prstGeom prst="ellips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250920" y="3213000"/>
            <a:ext cx="45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解：以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为圆心作圆，则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与点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距离分别为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cm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，所以满足三点中至少有一点在圆内，且至少有一点在圆外的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的取值范围是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﹤R﹤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04920" y="123336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33520" y="317196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12920" y="402444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979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22575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4000" y="105264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图，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原点，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坐标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， 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过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作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平行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轴，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运动，当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时，请你求出它的坐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987640" y="2997360"/>
            <a:ext cx="3240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7" name="Group 9"/>
          <p:cNvGrpSpPr/>
          <p:nvPr/>
        </p:nvGrpSpPr>
        <p:grpSpPr>
          <a:xfrm>
            <a:off x="5292720" y="3176640"/>
            <a:ext cx="2881440" cy="2597400"/>
            <a:chOff x="5292720" y="3176640"/>
            <a:chExt cx="2881440" cy="2597400"/>
          </a:xfrm>
        </p:grpSpPr>
        <p:sp>
          <p:nvSpPr>
            <p:cNvPr id="368" name="Line 10"/>
            <p:cNvSpPr/>
            <p:nvPr/>
          </p:nvSpPr>
          <p:spPr>
            <a:xfrm flipV="1">
              <a:off x="5292720" y="5022720"/>
              <a:ext cx="2427480" cy="144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9" name="Line 11"/>
            <p:cNvSpPr/>
            <p:nvPr/>
          </p:nvSpPr>
          <p:spPr>
            <a:xfrm flipV="1">
              <a:off x="5834520" y="3632040"/>
              <a:ext cx="5400" cy="1876320"/>
            </a:xfrm>
            <a:prstGeom prst="line">
              <a:avLst/>
            </a:prstGeom>
            <a:ln w="38160">
              <a:solidFill>
                <a:srgbClr val="007a77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6197760" y="4067280"/>
              <a:ext cx="884160" cy="858240"/>
            </a:xfrm>
            <a:prstGeom prst="ellips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Freeform 13"/>
            <p:cNvSpPr/>
            <p:nvPr/>
          </p:nvSpPr>
          <p:spPr>
            <a:xfrm rot="18866400">
              <a:off x="5825520" y="3527640"/>
              <a:ext cx="1779480" cy="1895400"/>
            </a:xfrm>
            <a:custGeom>
              <a:avLst/>
              <a:gdLst/>
              <a:ahLst/>
              <a:rect l="l" t="t" r="r" b="b"/>
              <a:pathLst>
                <a:path w="750" h="795">
                  <a:moveTo>
                    <a:pt x="0" y="0"/>
                  </a:moveTo>
                  <a:lnTo>
                    <a:pt x="750" y="795"/>
                  </a:lnTo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6445440" y="4149720"/>
              <a:ext cx="504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Text Box 15"/>
            <p:cNvSpPr/>
            <p:nvPr/>
          </p:nvSpPr>
          <p:spPr>
            <a:xfrm>
              <a:off x="5453280" y="4127400"/>
              <a:ext cx="377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Text Box 16"/>
            <p:cNvSpPr/>
            <p:nvPr/>
          </p:nvSpPr>
          <p:spPr>
            <a:xfrm>
              <a:off x="5531040" y="4975200"/>
              <a:ext cx="342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7520040" y="4975200"/>
              <a:ext cx="65412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Text Box 18"/>
            <p:cNvSpPr/>
            <p:nvPr/>
          </p:nvSpPr>
          <p:spPr>
            <a:xfrm>
              <a:off x="5783400" y="3357720"/>
              <a:ext cx="654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7359840" y="4435560"/>
              <a:ext cx="5396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8" name="Text Box 20"/>
          <p:cNvSpPr/>
          <p:nvPr/>
        </p:nvSpPr>
        <p:spPr>
          <a:xfrm>
            <a:off x="7740720" y="465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6372360" y="4797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39640" y="3860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解：点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的坐标为 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或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8"/>
          <p:cNvSpPr/>
          <p:nvPr/>
        </p:nvSpPr>
        <p:spPr>
          <a:xfrm>
            <a:off x="5003640" y="4437000"/>
            <a:ext cx="1224000" cy="1079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95280" y="1125360"/>
            <a:ext cx="854064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如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半径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轴交于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(0,- 4),N(0,-10)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函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x&lt;0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图象过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=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4859280" y="2133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85928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4500720" y="4149720"/>
            <a:ext cx="2879640" cy="1440"/>
          </a:xfrm>
          <a:prstGeom prst="line">
            <a:avLst/>
          </a:prstGeom>
          <a:ln w="9360">
            <a:solidFill>
              <a:srgbClr val="007a7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6084720" y="2924280"/>
            <a:ext cx="0" cy="3097080"/>
          </a:xfrm>
          <a:prstGeom prst="line">
            <a:avLst/>
          </a:prstGeom>
          <a:ln w="9360">
            <a:solidFill>
              <a:srgbClr val="007a77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5724360" y="414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23600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508720" y="4005360"/>
            <a:ext cx="21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615636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227640" y="51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724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-360" y="549000"/>
            <a:ext cx="867564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等腰三角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 B, 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定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=AC, 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中点，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直径作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（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内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顶角等于多少度时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外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ject 2" descr=""/>
          <p:cNvPicPr/>
          <p:nvPr/>
        </p:nvPicPr>
        <p:blipFill>
          <a:blip r:embed="rId1"/>
          <a:stretch/>
        </p:blipFill>
        <p:spPr>
          <a:xfrm>
            <a:off x="3886200" y="1720800"/>
            <a:ext cx="1219320" cy="87012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3" descr=""/>
          <p:cNvPicPr/>
          <p:nvPr/>
        </p:nvPicPr>
        <p:blipFill>
          <a:blip r:embed="rId2"/>
          <a:stretch/>
        </p:blipFill>
        <p:spPr>
          <a:xfrm>
            <a:off x="3841920" y="2558880"/>
            <a:ext cx="1218960" cy="8701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4" descr=""/>
          <p:cNvPicPr/>
          <p:nvPr/>
        </p:nvPicPr>
        <p:blipFill>
          <a:blip r:embed="rId3"/>
          <a:stretch/>
        </p:blipFill>
        <p:spPr>
          <a:xfrm>
            <a:off x="3841920" y="34416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1002960" y="173772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864000" y="254556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832320" y="342828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点在圆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4830120" y="347256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gt;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5090400" y="175248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lt;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5046120" y="2514600"/>
            <a:ext cx="14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=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352680" y="2286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2498400" y="106668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点和圆的位置关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29600" y="44197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分类讨论思想的运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457200" y="527364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点和圆的位置关系应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台风问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 rot="21297000">
            <a:off x="4267080" y="12949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行楷"/>
              </a:rPr>
              <a:t>畅谈收获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09480" y="32004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新魏"/>
              </a:rPr>
              <a:t>与同伴交流，来谈一下这节课你在知识和方法上的收获，你有何感想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9" name="Picture 5" descr="j0294973[1]"/>
          <p:cNvPicPr/>
          <p:nvPr/>
        </p:nvPicPr>
        <p:blipFill>
          <a:blip r:embed="rId1"/>
          <a:stretch/>
        </p:blipFill>
        <p:spPr>
          <a:xfrm>
            <a:off x="2124000" y="765000"/>
            <a:ext cx="19083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4920" y="853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代号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白沙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台风经过了小岛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。在每一时刻，台风所侵袭的区域总是以其中心为圆心的一个圆。小岛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在遭受台风袭击前后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台风的侵袭区域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有什么不同的位置关系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6320" y="3429000"/>
            <a:ext cx="8915400" cy="2000160"/>
            <a:chOff x="76320" y="3429000"/>
            <a:chExt cx="8915400" cy="200016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76320" y="3429000"/>
              <a:ext cx="891540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7925040" y="4343400"/>
              <a:ext cx="152280" cy="152280"/>
            </a:xfrm>
            <a:prstGeom prst="ellipse">
              <a:avLst/>
            </a:prstGeom>
            <a:solidFill>
              <a:srgbClr val="007a77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7728120" y="44337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9"/>
          <p:cNvSpPr/>
          <p:nvPr/>
        </p:nvSpPr>
        <p:spPr>
          <a:xfrm>
            <a:off x="3995640" y="1413000"/>
            <a:ext cx="2698920" cy="269856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295960" y="2728800"/>
            <a:ext cx="100080" cy="100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71168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点在圆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6934320" y="1371600"/>
            <a:ext cx="1635120" cy="457200"/>
          </a:xfrm>
          <a:prstGeom prst="wedgeRectCallout">
            <a:avLst>
              <a:gd name="adj1" fmla="val -64078"/>
              <a:gd name="adj2" fmla="val 18368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点在圆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4221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5157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6588000" y="2421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5867280" y="2349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5364000" y="37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Oval 20"/>
          <p:cNvSpPr/>
          <p:nvPr/>
        </p:nvSpPr>
        <p:spPr>
          <a:xfrm>
            <a:off x="3780000" y="1700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3276720" y="3141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4356000" y="981000"/>
            <a:ext cx="1656000" cy="432000"/>
          </a:xfrm>
          <a:prstGeom prst="wedgeRectCallout">
            <a:avLst>
              <a:gd name="adj1" fmla="val -74736"/>
              <a:gd name="adj2" fmla="val 13933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点在圆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354240" y="981000"/>
            <a:ext cx="18968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与圆的三种位置关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4"/>
          <p:cNvSpPr/>
          <p:nvPr/>
        </p:nvSpPr>
        <p:spPr>
          <a:xfrm>
            <a:off x="3059280" y="3284640"/>
            <a:ext cx="1871640" cy="1871640"/>
          </a:xfrm>
          <a:prstGeom prst="ellipse">
            <a:avLst/>
          </a:prstGeom>
          <a:noFill/>
          <a:ln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184560" y="4724280"/>
            <a:ext cx="108000" cy="1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979640" y="4724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39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观察并猜想用什么数量关系来描述点与圆的位置关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31"/>
          <p:cNvSpPr/>
          <p:nvPr/>
        </p:nvSpPr>
        <p:spPr>
          <a:xfrm>
            <a:off x="3979800" y="41464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79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1197000"/>
            <a:ext cx="84247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68360" y="3716280"/>
            <a:ext cx="8077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56360" y="1989000"/>
            <a:ext cx="762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258920" y="5157720"/>
            <a:ext cx="762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11280" y="40464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分别画出表示点与圆的三种位置关系的图，并用数学语言描述点与圆的位置关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在你画出的三幅图中，设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半径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分别测量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到圆心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距离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并与圆的半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大小进行比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思考点与圆的三种位置关系所对应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之间的数量关系分别是怎样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7620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14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0" y="189000"/>
            <a:ext cx="64944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80820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9" name="Group 16"/>
          <p:cNvGrpSpPr/>
          <p:nvPr/>
        </p:nvGrpSpPr>
        <p:grpSpPr>
          <a:xfrm>
            <a:off x="743040" y="0"/>
            <a:ext cx="2100240" cy="803520"/>
            <a:chOff x="743040" y="0"/>
            <a:chExt cx="2100240" cy="803520"/>
          </a:xfrm>
        </p:grpSpPr>
        <p:sp>
          <p:nvSpPr>
            <p:cNvPr id="130" name="Rectangle 17"/>
            <p:cNvSpPr/>
            <p:nvPr/>
          </p:nvSpPr>
          <p:spPr>
            <a:xfrm>
              <a:off x="743040" y="160920"/>
              <a:ext cx="210024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验证猜想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2414520" y="0"/>
              <a:ext cx="97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692440" y="4862520"/>
            <a:ext cx="2184480" cy="16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590920" y="1060560"/>
            <a:ext cx="1904760" cy="17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57200" y="76320"/>
          <a:ext cx="8305920" cy="5913360"/>
        </p:xfrm>
        <a:graphic>
          <a:graphicData uri="http://schemas.openxmlformats.org/drawingml/2006/table">
            <a:tbl>
              <a:tblPr/>
              <a:tblGrid>
                <a:gridCol w="2112840"/>
                <a:gridCol w="2465640"/>
                <a:gridCol w="3727440"/>
              </a:tblGrid>
              <a:tr h="97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语言描述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图形表示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圆心到点的距离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与半径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r</a:t>
                      </a: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的关系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内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上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点在圆外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26" descr=""/>
          <p:cNvPicPr/>
          <p:nvPr/>
        </p:nvPicPr>
        <p:blipFill>
          <a:blip r:embed="rId3"/>
          <a:stretch/>
        </p:blipFill>
        <p:spPr>
          <a:xfrm>
            <a:off x="2649600" y="2973240"/>
            <a:ext cx="1770120" cy="174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5345280" y="5562000"/>
            <a:ext cx="31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外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&lt;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4952880" y="1447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内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&gt;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5029200" y="34290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在圆上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=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52280" y="-10944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在△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∠C=90°,AB=5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=4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圆心，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c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半径画圆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-324000" y="24501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中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88920" y="1271520"/>
            <a:ext cx="31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88920" y="1881360"/>
            <a:ext cx="31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与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位置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5846400" y="2997360"/>
            <a:ext cx="2260080" cy="2622600"/>
            <a:chOff x="5846400" y="2997360"/>
            <a:chExt cx="2260080" cy="2622600"/>
          </a:xfrm>
        </p:grpSpPr>
        <p:pic>
          <p:nvPicPr>
            <p:cNvPr id="144" name="Picture 7" descr=""/>
            <p:cNvPicPr/>
            <p:nvPr/>
          </p:nvPicPr>
          <p:blipFill>
            <a:blip r:embed="rId1"/>
            <a:stretch/>
          </p:blipFill>
          <p:spPr>
            <a:xfrm>
              <a:off x="6216480" y="3189960"/>
              <a:ext cx="1472040" cy="21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7651440" y="49190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5905080" y="497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5846400" y="2997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6927480" y="3845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Group 12"/>
          <p:cNvGrpSpPr/>
          <p:nvPr/>
        </p:nvGrpSpPr>
        <p:grpSpPr>
          <a:xfrm>
            <a:off x="6300720" y="3933720"/>
            <a:ext cx="2619360" cy="2619360"/>
            <a:chOff x="6300720" y="3933720"/>
            <a:chExt cx="2619360" cy="2619360"/>
          </a:xfrm>
        </p:grpSpPr>
        <p:sp>
          <p:nvSpPr>
            <p:cNvPr id="150" name="Oval 13"/>
            <p:cNvSpPr/>
            <p:nvPr/>
          </p:nvSpPr>
          <p:spPr>
            <a:xfrm>
              <a:off x="6300720" y="3933720"/>
              <a:ext cx="2619360" cy="261936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7596000" y="5195880"/>
              <a:ext cx="115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6809400" y="3510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895000" y="396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871320" y="517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123160" y="126828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48360" y="177336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202800" y="242100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39640" y="350028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方法点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要判定一个点是否在圆上、圆内、圆外，只需求出此点与圆心的距离，然后与半径作比较即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28162" t="39824" r="50182" b="45109"/>
          <a:stretch/>
        </p:blipFill>
        <p:spPr>
          <a:xfrm>
            <a:off x="3733920" y="3429000"/>
            <a:ext cx="5410080" cy="2773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228600" y="1067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，某海域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周围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k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圆形区域为多暗礁的危险区，但水生物资源丰富，渔船要从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前进到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处进行捕鱼作业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之间的距离是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k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如果渔船始终保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km/h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航速，那么，在什么时段内，渔船是安全的？渔船何时进入危险区域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rcRect l="28162" t="39824" r="50182" b="45109"/>
          <a:stretch/>
        </p:blipFill>
        <p:spPr>
          <a:xfrm>
            <a:off x="-2384280" y="3384720"/>
            <a:ext cx="148572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578880" y="152280"/>
            <a:ext cx="11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做一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977160" y="413388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324480" y="47084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04920" y="36385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：由题可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C=k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C=7k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÷10=0.7h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所以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渔船出发时间小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7h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安全的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7h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入危险区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29200" y="4038480"/>
            <a:ext cx="10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8:54:27Z</dcterms:created>
  <dc:creator>user</dc:creator>
  <dc:description/>
  <dc:language>en-US</dc:language>
  <cp:lastModifiedBy>Administrator</cp:lastModifiedBy>
  <dcterms:modified xsi:type="dcterms:W3CDTF">2018-12-29T03:49:18Z</dcterms:modified>
  <cp:revision>1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